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302-3919-4919-BC49-2CA93EE0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ACA-55AF-41F2-9A4C-368A823B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571-625B-45E1-B2A5-E25F5340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89A-95EC-44E4-930C-6C244035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5FED-3723-4DF3-85BD-9D919395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D1AC-E823-4AE3-A5BA-EDC787E1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5A3C-BADE-4EB0-9154-8F2366C7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2A8A-36E9-43A6-9E67-133A7685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9CCF-E801-400F-A955-98698139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6332-2544-41F9-85A4-82047C42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3646-36C5-40EA-89F5-8D46A0A6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65F-9431-42E7-AB1D-40C5CFE6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7403-72A0-44F2-B434-18883127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F38E-1ED1-474E-998A-CB24458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1025-116F-4A20-A77A-F6AFE965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66AB-CA9A-4E8F-BD3E-8AFAA873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57BE-2767-4B19-8640-F3636E2A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AB8-F969-4395-9602-4AC69DC9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4EF-0BCE-4B37-8A8F-A9DE02E9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B1D-4041-4F53-ABBD-8A4E3E98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4DE-A73E-4B70-B75A-4AE0FE6A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202-7DA4-4C35-A764-BAA785E0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61E-7FEF-4B35-89D6-984A7475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E48-611C-4558-849D-9AB15D4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49C9-D5A4-4D91-9B2B-FE19061EEF81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43FA-5C2F-4EF7-A682-0A207662A329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3200" y="17971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10600"/>
            </a:br>
            <a:br>
              <a:rPr sz="96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Tahoma"/>
              </a:rPr>
              <a:t>من ذا الذ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-387360"/>
            <a:ext cx="4032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3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0" spc="-1" strike="noStrike">
                <a:solidFill>
                  <a:srgbClr val="000000"/>
                </a:solidFill>
                <a:latin typeface="Monotype Corsiva"/>
                <a:cs typeface="Wasit4 Outline Reverse"/>
              </a:rPr>
              <a:t>؟</a:t>
            </a:r>
            <a:endParaRPr b="0" lang="en-US" sz="6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-6048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11640" y="198900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هل أخافُ الليلَ والبدرُ رق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 أداوي اليأسَ والحبُّ طبيبْ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221000"/>
            <a:ext cx="914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ُرسَلٌ أنا ضاحكُ الـمُنى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81360"/>
            <a:ext cx="914400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يدي في غدي تُنبـِعُ السَنا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أَقطُفُ الورودْ من رُبى الخلودْ وأجودْ ب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963800"/>
            <a:ext cx="50036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طمحي القمم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قحمُ الأل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فمي ودم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َفتدي الأُمم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6064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عزمتي وثابةٌ نحو العلى تستقي الارزاءَ منها للمل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060640"/>
            <a:ext cx="46432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ن دعا الحب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حملُ الصل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أج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ها أ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-6048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2:52Z</dcterms:created>
  <dc:creator>Charbel Azar</dc:creator>
  <dc:description/>
  <dc:language>en-US</dc:language>
  <cp:lastModifiedBy>ف</cp:lastModifiedBy>
  <dcterms:modified xsi:type="dcterms:W3CDTF">2006-05-02T12:40:25Z</dcterms:modified>
  <cp:revision>11</cp:revision>
  <dc:subject/>
  <dc:title>PowerPoint Presentation</dc:title>
</cp:coreProperties>
</file>